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8.png" ContentType="image/png"/>
  <Override PartName="/ppt/media/image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48C6-03CC-43D8-AD99-980052B25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C8E-AFA6-4654-A7A9-F9A4F862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785-3557-44E1-98C6-E7702A6A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4CC0-BEC3-4CBD-862F-D8CEDD85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ED5-8EB3-43C1-85C0-7D240C41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A78-6F51-49BB-9779-9B72D2BB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61B-D3A6-444C-898C-1E0B6CA7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D6F-717C-49E4-8CE9-148C1B2D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8B0-5F23-4EFA-8D80-E103BE1E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CD9-9701-4A0B-A0ED-4120526B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42E3-408B-493D-8236-BAFB44CC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E53-F269-4DEB-905A-6E0A807F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8DB-5B1D-446A-8E78-7055FEE8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7BBF-DCDA-46CC-8F86-CF19486CD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70017"/>
                </a:solidFill>
                <a:latin typeface="Georgia"/>
              </a:rPr>
              <a:t>Space, Time and Einste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278" t="-5412" r="0" b="-1796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/>
            <a:ahLst/>
            <a:rect l="l" t="t" r="r" b="b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jahred on shift at cdf"/>
          <p:cNvPicPr/>
          <p:nvPr/>
        </p:nvPicPr>
        <p:blipFill>
          <a:blip r:embed="rId1"/>
          <a:srcRect l="0" t="21272" r="0" b="0"/>
          <a:stretch/>
        </p:blipFill>
        <p:spPr>
          <a:xfrm>
            <a:off x="4572000" y="1905120"/>
            <a:ext cx="457200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About my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riginally from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5th year graduate student at the University of Chicago, working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duating in a few months with a measurement of the mass of the top quark (ask me what that means if you don’t know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461280" y="50688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PLEASE ask questions if something isn’t cl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57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7-01-26T10:22:54Z</dcterms:modified>
  <cp:revision>62</cp:revision>
  <dc:subject/>
  <dc:title>Space, Time and Einstein</dc:title>
</cp:coreProperties>
</file>